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272-F763-4333-BB00-B56C94E7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4C8-F705-47F8-A82B-384F2074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C7F-FE7D-4BC0-A3A7-BE9E21B4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D26-D376-4F4D-9ADA-02B680CC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DA23-D2E7-458F-8F4F-8CE23AD0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2B99-C453-4C8F-BF01-28E2CE72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1660-180D-4F9B-8088-2A8EC0A0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78B6-B25C-4EB6-9283-B8AFCE08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4DDB-BEE2-4082-8DB4-206E77E7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0E1A-92EE-4818-868C-35DCE3D0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0002-E698-48C8-B7B1-207246C1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6B9-BD85-4670-9795-40AC5923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6814-9E7A-4090-B2A7-ACFAE02A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4808-272D-4BB4-9BD7-823D8986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DA36-F5F4-43F4-8A83-1819846C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C747-359D-4306-B190-B4422486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866C-CA74-4C76-B836-E8C7D318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031F7-6312-48AB-A375-9B8433DF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FCF8-C2C1-4D7C-9761-3C9CFFF8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9764B-28B3-40D1-84CF-0244AC42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B7709-F6D6-44FD-BE15-53962F84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F7E0-37AE-4F57-B684-7AB428B6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AE7-1E27-4BBE-883C-04F3363D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7755-DFC8-41D7-8F50-C4D36B34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57050-913B-43E7-9315-CFD9840E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2AE9B-6EF8-4EEA-BF06-11585799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BBDF-9026-4571-8B1F-20898132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B5D9B-BBB0-4603-8CD6-A03704CA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CC98-7D38-46E6-BB53-33AEA07F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123E-9D32-4F9A-8C2A-5ECEE895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7DD1A-1F4D-47CE-AC44-358BFFE3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0544E-961D-452C-A0E7-712B0BDE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C9E0-6C40-43F4-A215-374A0F2C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11F-5406-4118-8E2E-82E8569B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0F3D4-9012-4A78-BB78-B1B409EC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68C0B-2DF3-4CFA-A645-E72645E1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0FEDD-59BF-4C6D-9F55-768FED01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17188-C22A-4DDA-8422-0038D8A8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F81F7-BD8B-477A-8FD9-C85B96AE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280E7-54F1-43E9-8C0B-C7D6406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F0BD-2590-4A18-86F4-4DEA60B6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E3ED3-F13B-4BCA-ABF2-1153F3E7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2B9CE-BFEA-4415-9FE7-7611A26B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F5CBB-68E7-4E58-BAD4-15044266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64D-936C-40C8-82D8-AFE74E93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FC93D-6731-46CC-9E89-65713B32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B5387-AA6D-484A-8DB8-49FE655E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FA6EA-E4A4-4439-90F9-68DAC324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9658D-B18F-43E0-90C8-19A91A97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247D5-8A7C-4BF2-9E02-B625C7D9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ED741-F6B0-4B6E-B437-CEE9BC7C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25DF5-FD15-4531-B118-805F0B3B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36FD8-0119-466F-A1B9-C54A4BD4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716E2-D341-4C65-9719-874B99D1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AB0C6-A4C7-4667-84DC-2477BC98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E87-B072-485C-9ED6-EC2D0FAF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5B76B-F9A1-4C28-9DC4-7C50E390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355B7-F76B-4DA2-BA84-73A70BAD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AF78C-679A-4ACD-8B52-537F80B2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32245-EA87-4CE0-89AD-5F46EC7B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AC2BD-C71E-4AB2-8E27-F7BC1DD5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A0A1A-686B-42F7-978A-34DA384A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E9198-2866-419D-9E85-AD1742B7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B01A3-EE8B-45AA-9600-D1693392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DBB26-615A-4A43-A11D-C7A08B49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6A04D-B9BE-43A2-9A3E-0CEA57AA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ECB-8A0C-4499-A7CB-0395AF57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C000C-75C3-4FE1-9477-C26BF754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CB3A5-B97F-4DE9-9873-653250F7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75816-4BC4-49DB-9DDF-B125274D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BDC73-0991-42FC-9907-7C9A0C44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404E4-3EF1-4BDB-9254-7B49F2D4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64530-D463-4531-9C77-E9D99E1C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64C85-7298-4222-9353-BC8939CF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7B589-7EC8-4ECB-9392-07CC2C0D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95F17-E2A6-4057-9563-F67113F2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73BF6-D2CC-4ED8-B9E2-DE6B1F38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A2A-F724-4320-879C-CCD43E41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ED6C6-8F13-48B6-AC19-3DA403F8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56B8C-C108-4619-8AC9-31E9A284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3F76A-123A-4131-90DA-3069E556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CA8CA-EF36-4B3D-8D1E-D980EA48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99372-56D4-4A25-8E7F-C6CB5781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182-2CBB-4B98-9244-30691BA1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F4C47-2F48-4359-BDC7-DF25CFCB82D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740FB-1257-481E-A74E-9CFB7783524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1E81C-DE6C-4CE2-B770-B649754F04D7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33AB7-2AE3-4793-BEEC-8B64A872D13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A88C9-A82F-4B31-9E6A-C42EA0C281F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EA024-CD91-44A9-81A4-390BD7877FA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43FC9-2DD0-458B-890F-95C138187A7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CA86D-F67C-4165-90CB-BE4E01AA621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46C7C-BAB8-4784-A04A-885989EFB50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22E31-4BD1-4163-A3E0-56E3D31F7FB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782B2-B863-41E5-A4E7-64F8F2588A4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D5E1B-D39D-436C-9122-484CD3731E7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B0A1C-CA3E-4C50-9F05-4A4E366A10D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65061-D3B0-4938-93F6-76AC09A6E7D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arning about Learn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TQI Modeling Pilo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ase study from ASTR102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920"/>
            <a:ext cx="7499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26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09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11560" indent="-189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e dedicated ‘hands-on/minds-on’ activity to address light intens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Chart 7" descr=""/>
          <p:cNvPicPr/>
          <p:nvPr/>
        </p:nvPicPr>
        <p:blipFill>
          <a:blip r:embed="rId2"/>
          <a:stretch/>
        </p:blipFill>
        <p:spPr>
          <a:xfrm>
            <a:off x="4840200" y="3108240"/>
            <a:ext cx="3902040" cy="3432240"/>
          </a:xfrm>
          <a:prstGeom prst="rect">
            <a:avLst/>
          </a:prstGeom>
          <a:ln w="0">
            <a:noFill/>
          </a:ln>
        </p:spPr>
      </p:pic>
      <p:sp>
        <p:nvSpPr>
          <p:cNvPr id="344" name="Content Placeholder 2"/>
          <p:cNvSpPr/>
          <p:nvPr/>
        </p:nvSpPr>
        <p:spPr>
          <a:xfrm>
            <a:off x="1397160" y="3137040"/>
            <a:ext cx="32382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erformance on other items did not suff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vidence-based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QI working group identified general features of teaching that evidence suggests enhance learning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this is so, shouldn’t all our students benefit from them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vidence-based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 related to constructivist view of lear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ing is a dynamic process that takes place when learners try to integrate new experiences and information into their existing schema of the world in a meaningful way.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ing is ‘making sense’ of new information in the context of what you already ‘know’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vidence-based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ing prior knowledge explic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ople make sense of the world in terms of what they already ‘know’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refore, it’s important that both the learner and teacher are aware of this prior knowledg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you view your students’ prior knowledge in your class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 flipH="1">
            <a:off x="7207200" y="274680"/>
            <a:ext cx="1727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vidence-based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moting active engag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ople learn better when ‘engaged’ with trying to understand the content rather than passive recep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nds-on’ is more important than ‘Hands-on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cilitating social intera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collaborative groups can extend knowledge and understanding further than an individua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could you address both of these in a large cla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7029360" y="274680"/>
            <a:ext cx="21146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vidence-based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a learning cycle approa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’s not just ‘get it’ or ‘don’t get it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ing is a gradual process involving states of ‘partial knowledge’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learning process can be ‘scaffolded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varied techniqu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people have different learning styl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ditory, kinesthetic, visual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do you do to accommodate different styl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0" y="274680"/>
            <a:ext cx="2076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vidence-based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tinual formative assess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mative versus summative assess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edback works both way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you know whether your students are learning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often do you check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all your assessment ‘high-stakes’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6916680" y="307800"/>
            <a:ext cx="215892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earning about Learning Progra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TU pilot program to address TQI Modeling focal are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our opportunity to consider and discuss all these (and more?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rticipants: new faculty plus selected oth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earning about Learning Progra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ect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tend large group meetings/seminars if possi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ll address general issu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ld regular small-group meet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scuss discipline-specific context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te two surve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e and post progra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y out an evidence-based strategy at some point in a spring cla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f possible, briefly document implementation and impac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ive student survey in these classes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roup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6" name="Content Placeholder 3" descr=""/>
          <p:cNvPicPr/>
          <p:nvPr/>
        </p:nvPicPr>
        <p:blipFill>
          <a:blip r:embed="rId2"/>
          <a:stretch/>
        </p:blipFill>
        <p:spPr>
          <a:xfrm>
            <a:off x="1359000" y="1378080"/>
            <a:ext cx="7651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art with a ques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many university faculty does it take to change a light bulb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ANGE ????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Learning about Learning Progra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w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lary supplement ($1,250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$500 in December, rest in May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vel mone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p to $500 for program-related tra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n be used for other purposes if approv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o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 give background and focus discussio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d with a joke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17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many surrealists does it take to change a light bulb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to hold the giraffe, and the other to fill the bathtub with brightly colored machine tool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ut more seriously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 a card write one word to describe the preparation of students entering your entry-level class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cuss with your neighbors what you think the reasons for this ar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Tennessee Teaching Quality Initiative (TQI)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7521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QI Task Force (2006/07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oad participation fro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ge of stakehold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ed issues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aching qualit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suppl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dentified five focal ar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6067440" y="2328840"/>
            <a:ext cx="28987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QI Focal are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17680"/>
            <a:ext cx="7499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nowledge b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ong background in content and pedago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racteristics of Quality Tea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o will be a good teacher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fessionalizing teach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ablishing a meaningful career lad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does effective teaching look and feel lik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nto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rentice teachers need meaningful suppor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00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000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dec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del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17680"/>
            <a:ext cx="7499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-12 teachers are expected to employ evidence-based teaching strategies in their own class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 all tend to teach as we were taugh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maximize chances of producing effective teachers we need to model effective teaching for th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re questions to discu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o students in your own classes learn as well as you want them 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o you know if learning you desire is actually happening in your classroo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it possible to improve student learning in your classes? If so, how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ase study from ASTR102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920"/>
            <a:ext cx="7499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tronomy Diagnostic Te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test given at start and end of cour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Chart 3" descr=""/>
          <p:cNvPicPr/>
          <p:nvPr/>
        </p:nvPicPr>
        <p:blipFill>
          <a:blip r:embed="rId2"/>
          <a:stretch/>
        </p:blipFill>
        <p:spPr>
          <a:xfrm>
            <a:off x="4840200" y="2901960"/>
            <a:ext cx="3902040" cy="3217680"/>
          </a:xfrm>
          <a:prstGeom prst="rect">
            <a:avLst/>
          </a:prstGeom>
          <a:ln w="0">
            <a:noFill/>
          </a:ln>
        </p:spPr>
      </p:pic>
      <p:sp>
        <p:nvSpPr>
          <p:cNvPr id="336" name="Content Placeholder 2"/>
          <p:cNvSpPr/>
          <p:nvPr/>
        </p:nvSpPr>
        <p:spPr>
          <a:xfrm>
            <a:off x="1427040" y="2906640"/>
            <a:ext cx="3240360" cy="35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erformance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elected i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#5 – speed of radio waves versus other 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#15 – how light intensity depends on d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ase study from ASTR1020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Content Placeholder 2"/>
          <p:cNvSpPr/>
          <p:nvPr/>
        </p:nvSpPr>
        <p:spPr>
          <a:xfrm>
            <a:off x="1427040" y="2906640"/>
            <a:ext cx="32403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ignificantly improved  performance on 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till poor on #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920"/>
            <a:ext cx="74995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0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 focus on these topics in ‘lecture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Chart 6" descr=""/>
          <p:cNvPicPr/>
          <p:nvPr/>
        </p:nvPicPr>
        <p:blipFill>
          <a:blip r:embed="rId2"/>
          <a:stretch/>
        </p:blipFill>
        <p:spPr>
          <a:xfrm>
            <a:off x="4840200" y="2779560"/>
            <a:ext cx="39020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3:21:09Z</dcterms:created>
  <dc:creator>Steve Robinson</dc:creator>
  <dc:description/>
  <dc:language>en-US</dc:language>
  <cp:lastModifiedBy>Steve Robinson</cp:lastModifiedBy>
  <dcterms:modified xsi:type="dcterms:W3CDTF">2010-12-02T16:03:08Z</dcterms:modified>
  <cp:revision>29</cp:revision>
  <dc:subject/>
  <dc:title>Learning about Learning</dc:title>
</cp:coreProperties>
</file>